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6E0C4-8BC4-4AD5-9F9C-02F57DD27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40F6F-F9BE-44E5-8EB8-E0612C208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1AEA-71C5-424B-AC9E-24329341A4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DBD3F-1CCD-4A6A-BD48-E3CD1492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3B69-BE85-49C9-8961-7D70AD5AE9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D3475-AD1F-4B67-B84B-65590D6B1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25196-EEB0-48AE-85E4-9201A367F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E8677-293C-47A7-8B3E-AC3240FE3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9FCD8-0262-40B6-A565-4E82C2E3A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AA22D-7776-45D5-B27B-5F91AFEAF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0BC63-776A-4E0B-9297-9CDA62C31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1554-C7BC-4BC0-9839-76154AE84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D5CA-576E-4E59-A1A3-A6A910EAF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60D59-5FD6-4E1D-8396-306F96F5E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D692C-390E-48B1-8102-C02E222A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E0DE2-6CAB-461C-9F4F-95E441A57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1A6CB-8D75-4F32-BB93-BCF4F5C66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77FD3-17D7-4110-96FA-D71C2817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EB3B-C396-4B3A-B242-61B2C33C2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30D30-C022-468E-A328-F029442C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2F40-4E00-42A3-92B1-DF42402F5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7C54-059F-4812-A720-CAA91D273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2579D-DE15-4E44-A68A-7E5CAE636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14E45-69F8-4A80-B6AD-2FE07DA9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C913F-3ADE-4BE8-B85A-2D56FBB74B9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75D53-1409-41C9-AC7B-562ECBC8622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gestion in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Network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ckpress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de becomes congested it can slow down or halt flow of packets from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mean that other nodes have to apply control on incoming packe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es back to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restrict to logical connections generating most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connection oriented that allow hop by hop congestion control (e.g. X.2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used in ATM nor 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cently developed for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oke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acke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enerated at congested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urce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CMP source quen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rom router or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urce cuts back until no more source quench mess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t for every discarded packet, or anticipa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her crud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delay may increas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ay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can detect these as implicit indications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on connectionless (datagram)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P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TCP includes congestion and flow control - see chapter 17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frame relay LA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Congestion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increas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take steps to reduce offer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opposite direction to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 avoidance in same direction as packe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tegories of 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it set in a packet indicat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s how many packets source may 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for end to end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ly explicit data rate li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want different treatment for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ffic contract between user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in Packet Switched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control packet to some or all source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dditional traffic during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y on 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act too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probe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s to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 congestion info to packets as they cross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backwards or forw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, small cell size, limited overhead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ill evol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jority of traffic not amenable to 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slow due to reduced transmission time compared with 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 range of application de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traffic patter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network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 switching and transmission increases volat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tency/Speed Eff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15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~2.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seconds to insert single c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traverse network depends on propagation delay, switching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propagation at two-thirds speed of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source and destination on opposite sides of USA, propagation time ~ 48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-3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iven implicit congestion control, by the time dropped cell notification has reached source, 7.2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have been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, this is not a good strategy for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TM voice/video, data is a stream of ce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across network must be sh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te of delivery must be cons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e will always be some variation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cell delivery to application so that constant bit rate can be maintained to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at Is Congestion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occurs when the number of packets being transmitted through the network approaches the packet handling capacity of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 aims to keep number of packets below level at which performance falls off dramatic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network is a network of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lly 80% utilization is crit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queues mean data may be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Re-assembly of CBR Cel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6522"/>
          <a:stretch/>
        </p:blipFill>
        <p:spPr>
          <a:xfrm>
            <a:off x="609480" y="1447920"/>
            <a:ext cx="7925040" cy="48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Contribution 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ing 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deci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r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above but to lesser ext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than frame r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protocol designed to minimize processing overheads at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switches have very 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oticeable delay is from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not accept load that causes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Delay Varia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 The UN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produces data at fixed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ing at three layers of ATM causes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leaving cells from different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ion and maintenance cell interleav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using synchronous digital hierarchy frames, these are inserted at physical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predict these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igins of Cell Delay Var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3014"/>
          <a:stretch/>
        </p:blipFill>
        <p:spPr>
          <a:xfrm>
            <a:off x="533520" y="1371600"/>
            <a:ext cx="8001000" cy="52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and 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rame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M layer traffic and congestion control should support QoS classes for all foreseeable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not rely on AAL protocols that are network specific, nor higher level application specific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uld minimize network and end to end system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s Conside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ll inser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trip 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d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te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whether a given new connection can be accommod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gree performance parameters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Management and Congestion Control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management using virtu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ge paramete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cell disc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sha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Management Using Virtual Path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traffic flow according to service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user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to network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 wi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loss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transfer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ura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CCs and VP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1822"/>
          <a:stretch/>
        </p:blipFill>
        <p:spPr>
          <a:xfrm>
            <a:off x="914400" y="1371600"/>
            <a:ext cx="6477120" cy="54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locating VCCs within VP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VCCs within VPC should experience similar 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 for allo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peak de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es at a N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863"/>
          <a:stretch/>
        </p:blipFill>
        <p:spPr>
          <a:xfrm>
            <a:off x="1752480" y="1371600"/>
            <a:ext cx="5715000" cy="54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Admiss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line of def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specifies traffic characteristics for new connection (VCC or VPC) by selecting a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ccepts connection only if it can meet the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ll 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stainable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rs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age Paramete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itor connection to ensure traffic cinforms to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of network resources from overload by on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on VCC and VP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cell rate and cell delay var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tainable cell rate and burst toler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cells that do not conform to traffic contra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ed traffic poli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Shap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ooth out traffic flow and reduce cell clu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bu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1606"/>
          <a:stretch/>
        </p:blipFill>
        <p:spPr>
          <a:xfrm>
            <a:off x="533520" y="1752480"/>
            <a:ext cx="8001000" cy="43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-ABR Traffic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applications (Web, file transfer) do not have well defined traffic characterist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 these applications to share unused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congestion builds, cells are dropp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d loop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 connections share available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re varies between minimum cell rate (MCR) and peak cell rate (PC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 flow limited to available capacity by feed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05840" indent="-200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absorb excess traffic during feedback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ell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eedback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ate characteristic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ed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ak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 cell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ACR=IC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just ACR based on feedback from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 management cel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gestion indication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increase b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licit cell rat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iations in Allowed Cell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1523880" y="1371600"/>
            <a:ext cx="63248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ell Fl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36780"/>
          <a:stretch/>
        </p:blipFill>
        <p:spPr>
          <a:xfrm>
            <a:off x="533520" y="1700280"/>
            <a:ext cx="8001000" cy="25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te Control Feed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CI (Explicit forward congestion indication)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tive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rate 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Rel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discar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antain agreed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probability of one end user monop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overhead on network or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ate minimal additional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 resources fair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spread of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rate effectively regardless of traffic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impact on other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 variance in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Conges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riving are stored at input buff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 m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moves to outpu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queued for output transmitted as fast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stical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packets arrive to fast to be routed, or to be output, buffers will fi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discard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propagate congestion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avoid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licit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licit signal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Rate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discard frames to cope with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bitrarily, no regard for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eward for restraint so end systems transmit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itted information rate (CI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excess of this liable to discar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 guarante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gate CIR should not exceed physical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itted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ess burs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of C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31978"/>
          <a:stretch/>
        </p:blipFill>
        <p:spPr>
          <a:xfrm>
            <a:off x="1219320" y="1738440"/>
            <a:ext cx="6933960" cy="37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ationship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o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407"/>
          <a:stretch/>
        </p:blipFill>
        <p:spPr>
          <a:xfrm>
            <a:off x="3838680" y="152280"/>
            <a:ext cx="530532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licit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alerts end systems of growing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ward explicit congestion no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handler monitors its queu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notify some or all logical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respons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action of Que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11111"/>
          <a:stretch/>
        </p:blipFill>
        <p:spPr>
          <a:xfrm>
            <a:off x="1523880" y="1828800"/>
            <a:ext cx="606744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de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021200" y="0"/>
            <a:ext cx="5122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actical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al assumes infinite buffers and no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ffers are fin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s occur in exchanging congestion contro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ffects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7475"/>
          <a:stretch/>
        </p:blipFill>
        <p:spPr>
          <a:xfrm>
            <a:off x="4094280" y="0"/>
            <a:ext cx="5049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sm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33166"/>
          <a:stretch/>
        </p:blipFill>
        <p:spPr>
          <a:xfrm>
            <a:off x="457200" y="2244600"/>
            <a:ext cx="8077320" cy="29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4T09:59:24Z</dcterms:created>
  <dc:creator>Adrian &amp; Wendy</dc:creator>
  <dc:description/>
  <dc:language>en-US</dc:language>
  <cp:lastModifiedBy>Adrian &amp; Wendy</cp:lastModifiedBy>
  <dcterms:modified xsi:type="dcterms:W3CDTF">1999-11-15T10:16:40Z</dcterms:modified>
  <cp:revision>67</cp:revision>
  <dc:subject/>
  <dc:title>William Stallings Data and Computer Communications</dc:title>
</cp:coreProperties>
</file>